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ED4C1-B1D8-45DE-BEA7-9272A8843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EC008-7C9C-4BF7-8CAE-AD1DC59D1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38A2E-059C-4810-91F2-EE42AD757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D7E29-0B34-4B18-9743-82E2D1786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D98C7-5EB6-4F45-A715-3EEBCD090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A4ACC-CC12-4BA8-8275-78EFFA86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4AC6-6AC4-44AA-860E-258A48010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D78DC-FF3F-4F9F-B7B3-1FEE4568A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FD0D9-EBE7-4C08-9C0D-BD3FDBA8C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2442-E915-4F9B-9762-EE1154CE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542A-5C3F-47AC-A1FE-B3452D410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EB6B-5742-4CD3-A53B-21F5BBF63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99AA-F0AB-40FD-9A9D-EF7E59168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00a078"/>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040" y="3040200"/>
            <a:ext cx="8566200" cy="1425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ult and Child stereotypical survey</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14320" y="4572000"/>
            <a:ext cx="673092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ndre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262699"/>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Questions (1-6)</a:t>
            </a:r>
            <a:endParaRPr b="0" lang="en-US" sz="4300" spc="-1" strike="noStrike">
              <a:solidFill>
                <a:srgbClr val="000000"/>
              </a:solidFill>
              <a:latin typeface="Times New Roman"/>
            </a:endParaRPr>
          </a:p>
        </p:txBody>
      </p:sp>
      <p:sp>
        <p:nvSpPr>
          <p:cNvPr id="44"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Is it true that men are braver then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Is it true that girls are smarter then boy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Do boys have better hair then gir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Are boys stronger then girls physicall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Are boys better then girls in spor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Do boys run slower then girl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8181a1"/>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Questions  (7-10)</a:t>
            </a:r>
            <a:endParaRPr b="0" lang="en-US" sz="4300" spc="-1" strike="noStrike">
              <a:solidFill>
                <a:srgbClr val="000000"/>
              </a:solidFill>
              <a:latin typeface="Times New Roman"/>
            </a:endParaRPr>
          </a:p>
        </p:txBody>
      </p:sp>
      <p:sp>
        <p:nvSpPr>
          <p:cNvPr id="46"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Do girls attract more peop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Are girls better at teaching childr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Are men always taller then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Are women nicer then wom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b16a4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troduction</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am going to show you a slide show on questions I asked people by, there were 10 questions that I asked 24 people and each person said yes or no to my survey based on gender bias question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ope you like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3c073"/>
            </a:gs>
            <a:gs pos="50000">
              <a:srgbClr val="99ff99"/>
            </a:gs>
            <a:gs pos="100000">
              <a:srgbClr val="73c073"/>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04920" y="990720"/>
          <a:ext cx="9372240" cy="4800240"/>
        </p:xfrm>
        <a:graphic>
          <a:graphicData uri="http://schemas.openxmlformats.org/drawingml/2006/table">
            <a:tbl>
              <a:tblPr/>
              <a:tblGrid>
                <a:gridCol w="457560"/>
                <a:gridCol w="371520"/>
                <a:gridCol w="284760"/>
                <a:gridCol w="457920"/>
                <a:gridCol w="371520"/>
                <a:gridCol w="371160"/>
                <a:gridCol w="371160"/>
                <a:gridCol w="371880"/>
                <a:gridCol w="371160"/>
                <a:gridCol w="371520"/>
                <a:gridCol w="371160"/>
                <a:gridCol w="371160"/>
                <a:gridCol w="371880"/>
                <a:gridCol w="371160"/>
                <a:gridCol w="371520"/>
                <a:gridCol w="380160"/>
                <a:gridCol w="364320"/>
                <a:gridCol w="371160"/>
                <a:gridCol w="371520"/>
                <a:gridCol w="371160"/>
                <a:gridCol w="371520"/>
                <a:gridCol w="371520"/>
                <a:gridCol w="371160"/>
                <a:gridCol w="371520"/>
                <a:gridCol w="371160"/>
              </a:tblGrid>
              <a:tr h="54360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0</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9</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8</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17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7</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6</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5</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140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4</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233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3</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17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4021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6177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Times New Roman"/>
                      </a:endParaRPr>
                    </a:p>
                  </a:txBody>
                  <a:tcPr anchor="t">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1066680" y="5979600"/>
            <a:ext cx="8153640" cy="92664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ult answers)  the ones that look like black dots mean (NO)</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s that look like lines or  a V means (Y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676080"/>
            <a:ext cx="863604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 answers  y-yes, n-no</a:t>
            </a:r>
            <a:endParaRPr b="0" lang="en-US" sz="4400" spc="-1" strike="noStrike">
              <a:solidFill>
                <a:srgbClr val="000000"/>
              </a:solidFill>
              <a:latin typeface="Times New Roman"/>
            </a:endParaRPr>
          </a:p>
        </p:txBody>
      </p:sp>
      <p:graphicFrame>
        <p:nvGraphicFramePr>
          <p:cNvPr id="52" name=""/>
          <p:cNvGraphicFramePr/>
          <p:nvPr/>
        </p:nvGraphicFramePr>
        <p:xfrm>
          <a:off x="0" y="1676520"/>
          <a:ext cx="10153800" cy="5707080"/>
        </p:xfrm>
        <a:graphic>
          <a:graphicData uri="http://schemas.openxmlformats.org/drawingml/2006/table">
            <a:tbl>
              <a:tblPr/>
              <a:tblGrid>
                <a:gridCol w="450720"/>
                <a:gridCol w="355680"/>
                <a:gridCol w="406440"/>
                <a:gridCol w="406440"/>
                <a:gridCol w="406440"/>
                <a:gridCol w="412560"/>
                <a:gridCol w="381240"/>
                <a:gridCol w="425160"/>
                <a:gridCol w="336600"/>
                <a:gridCol w="476280"/>
                <a:gridCol w="406440"/>
                <a:gridCol w="406440"/>
                <a:gridCol w="406440"/>
                <a:gridCol w="406440"/>
                <a:gridCol w="406440"/>
                <a:gridCol w="406440"/>
                <a:gridCol w="406080"/>
                <a:gridCol w="406440"/>
                <a:gridCol w="406440"/>
                <a:gridCol w="406440"/>
                <a:gridCol w="406440"/>
                <a:gridCol w="406440"/>
                <a:gridCol w="406440"/>
                <a:gridCol w="406440"/>
                <a:gridCol w="406440"/>
              </a:tblGrid>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9</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b16a"/>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der Bias Survey Results</a:t>
            </a:r>
            <a:endParaRPr b="0" lang="en-US" sz="4400" spc="-1" strike="noStrike">
              <a:solidFill>
                <a:srgbClr val="000000"/>
              </a:solidFill>
              <a:latin typeface="Times New Roman"/>
            </a:endParaRPr>
          </a:p>
        </p:txBody>
      </p:sp>
      <p:sp>
        <p:nvSpPr>
          <p:cNvPr id="54" name="PlaceHolder 2"/>
          <p:cNvSpPr>
            <a:spLocks noGrp="1"/>
          </p:cNvSpPr>
          <p:nvPr>
            <p:ph/>
          </p:nvPr>
        </p:nvSpPr>
        <p:spPr>
          <a:xfrm>
            <a:off x="762120" y="2200320"/>
            <a:ext cx="4241520" cy="4573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ult Surve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asking  people over my age gender bias questions I understood that most adults did not argue who is better or yell *Yes, boys are better then girls in sports, no,girls are better! They did react a little ,but they just understood it is old-fashioned opinions in where they actually belong. I said this because when I asked all the questions and looked at all the answers and found what I really expected from them.</a:t>
            </a:r>
            <a:endParaRPr b="0" lang="en-US" sz="2000" spc="-1" strike="noStrike">
              <a:solidFill>
                <a:srgbClr val="000000"/>
              </a:solidFill>
              <a:latin typeface="Times New Roman"/>
            </a:endParaRPr>
          </a:p>
        </p:txBody>
      </p:sp>
      <p:sp>
        <p:nvSpPr>
          <p:cNvPr id="55" name="PlaceHolder 3"/>
          <p:cNvSpPr>
            <a:spLocks noGrp="1"/>
          </p:cNvSpPr>
          <p:nvPr>
            <p:ph/>
          </p:nvPr>
        </p:nvSpPr>
        <p:spPr>
          <a:xfrm>
            <a:off x="5155920" y="2200320"/>
            <a:ext cx="4241880" cy="4573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Surve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finally asking people over my age I started to ask kids my age gender bias questions ,while I was asking a boy a gender bias question a girl yelled out (no,girls run faster)the boy herd it and started to argue with girl.So then I realized  that boys and girls all have different opinions.I say this is because while we are young we have different opinions and we do not know if we are meant to be there or who is bet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8787a9"/>
            </a:gs>
            <a:gs pos="100000">
              <a:srgbClr val="ccccff"/>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5155920" y="2200320"/>
            <a:ext cx="4241880" cy="4573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doing my survey I learned a lot about people and their gender bias answers they told me.I learned that both boys,girls,men and women have different opinions on who is better or yes or no if girls or boys  are stronger,better looking, or anything else.</a:t>
            </a:r>
            <a:endParaRPr b="0" lang="en-US" sz="2800" spc="-1" strike="noStrike">
              <a:solidFill>
                <a:srgbClr val="000000"/>
              </a:solidFill>
              <a:latin typeface="Times New Roman"/>
            </a:endParaRPr>
          </a:p>
        </p:txBody>
      </p:sp>
      <p:grpSp>
        <p:nvGrpSpPr>
          <p:cNvPr id="58" name=""/>
          <p:cNvGrpSpPr/>
          <p:nvPr/>
        </p:nvGrpSpPr>
        <p:grpSpPr>
          <a:xfrm>
            <a:off x="1066680" y="6553080"/>
            <a:ext cx="7472520" cy="838080"/>
            <a:chOff x="1066680" y="6553080"/>
            <a:chExt cx="7472520" cy="838080"/>
          </a:xfrm>
        </p:grpSpPr>
        <p:sp>
          <p:nvSpPr>
            <p:cNvPr id="59"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1066680" y="6553080"/>
              <a:ext cx="7472520" cy="838080"/>
              <a:chOff x="1066680" y="6553080"/>
              <a:chExt cx="7472520" cy="838080"/>
            </a:xfrm>
          </p:grpSpPr>
          <p:sp>
            <p:nvSpPr>
              <p:cNvPr id="61"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3" name="" descr="free smiley clipart for kids"/>
          <p:cNvPicPr/>
          <p:nvPr/>
        </p:nvPicPr>
        <p:blipFill>
          <a:blip r:embed="rId1"/>
          <a:stretch/>
        </p:blipFill>
        <p:spPr>
          <a:xfrm>
            <a:off x="1828800" y="2362320"/>
            <a:ext cx="3174840" cy="2057400"/>
          </a:xfrm>
          <a:prstGeom prst="rect">
            <a:avLst/>
          </a:prstGeom>
          <a:ln w="0">
            <a:noFill/>
          </a:ln>
        </p:spPr>
      </p:pic>
      <p:grpSp>
        <p:nvGrpSpPr>
          <p:cNvPr id="64" name=""/>
          <p:cNvGrpSpPr/>
          <p:nvPr/>
        </p:nvGrpSpPr>
        <p:grpSpPr>
          <a:xfrm>
            <a:off x="1066680" y="6553080"/>
            <a:ext cx="7472520" cy="838080"/>
            <a:chOff x="1066680" y="6553080"/>
            <a:chExt cx="7472520" cy="838080"/>
          </a:xfrm>
        </p:grpSpPr>
        <p:sp>
          <p:nvSpPr>
            <p:cNvPr id="65"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1066680" y="6553080"/>
              <a:ext cx="7472520" cy="838080"/>
              <a:chOff x="1066680" y="6553080"/>
              <a:chExt cx="7472520" cy="838080"/>
            </a:xfrm>
          </p:grpSpPr>
          <p:sp>
            <p:nvSpPr>
              <p:cNvPr id="67"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66680" y="6553080"/>
                <a:ext cx="7472520" cy="838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9" name="" descr="free smiley clipart for kids"/>
          <p:cNvPicPr/>
          <p:nvPr/>
        </p:nvPicPr>
        <p:blipFill>
          <a:blip r:embed="rId2"/>
          <a:stretch/>
        </p:blipFill>
        <p:spPr>
          <a:xfrm>
            <a:off x="1752480" y="4876920"/>
            <a:ext cx="1676520" cy="1311120"/>
          </a:xfrm>
          <a:prstGeom prst="rect">
            <a:avLst/>
          </a:prstGeom>
          <a:ln w="0">
            <a:noFill/>
          </a:ln>
        </p:spPr>
      </p:pic>
      <p:grpSp>
        <p:nvGrpSpPr>
          <p:cNvPr id="70" name=""/>
          <p:cNvGrpSpPr/>
          <p:nvPr/>
        </p:nvGrpSpPr>
        <p:grpSpPr>
          <a:xfrm>
            <a:off x="1371600" y="0"/>
            <a:ext cx="7596360" cy="930240"/>
            <a:chOff x="1371600" y="0"/>
            <a:chExt cx="7596360" cy="930240"/>
          </a:xfrm>
        </p:grpSpPr>
        <p:sp>
          <p:nvSpPr>
            <p:cNvPr id="71" name=""/>
            <p:cNvSpPr/>
            <p:nvPr/>
          </p:nvSpPr>
          <p:spPr>
            <a:xfrm>
              <a:off x="1371600" y="0"/>
              <a:ext cx="7596360" cy="930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1371600" y="0"/>
              <a:ext cx="7596360" cy="930240"/>
              <a:chOff x="1371600" y="0"/>
              <a:chExt cx="7596360" cy="930240"/>
            </a:xfrm>
          </p:grpSpPr>
          <p:sp>
            <p:nvSpPr>
              <p:cNvPr id="73" name=""/>
              <p:cNvSpPr/>
              <p:nvPr/>
            </p:nvSpPr>
            <p:spPr>
              <a:xfrm>
                <a:off x="1371600" y="0"/>
                <a:ext cx="7596360" cy="930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371600" y="0"/>
                <a:ext cx="7596360" cy="93024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75" name="" descr="free smiley clipart for kids"/>
          <p:cNvPicPr/>
          <p:nvPr/>
        </p:nvPicPr>
        <p:blipFill>
          <a:blip r:embed="rId3"/>
          <a:stretch/>
        </p:blipFill>
        <p:spPr>
          <a:xfrm>
            <a:off x="3581280" y="4800600"/>
            <a:ext cx="16383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Vanessa Collier</cp:lastModifiedBy>
  <dcterms:modified xsi:type="dcterms:W3CDTF">2010-05-04T18:28:20Z</dcterms:modified>
  <cp:revision>9</cp:revision>
  <dc:subject/>
  <dc:title>PowerPoint Presentation</dc:title>
</cp:coreProperties>
</file>